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3.gif" ContentType="image/gif"/>
  <Override PartName="/ppt/media/image14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62F8-664B-4D71-B005-11067A24E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9A62-2711-4792-B551-458FD70F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14FD53-AB64-4A88-BA99-F6314370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4C94CD-FCA2-4C5B-BFF5-E57ED38E1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EC0FD8E-F687-4538-AE1A-0CF5AA0D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24ADB6F-0429-4C19-8630-54969F944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58B5EC-31E6-4288-84F8-1EC0F9ACB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E0A3F3-D1BC-4DDD-BE67-20CB44610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729F2D-A543-40CC-A7AC-896044D7C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5A17122-805B-4B2F-B412-AA5231F54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DA106A0-A5BD-4553-BD3E-A5661EE47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89679AD-55A6-4075-B2A8-7B86718AF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A4A5-A1B3-457C-A420-0D425315F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5D5BBC-722B-4A78-A891-4CAF6648B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EFC6AF-A0FF-4550-8F7D-14D223BF7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2A72D8-B361-40FE-A7E0-684F2FD64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D3BFD0F-DB4B-4CDE-AACC-2507A9084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165EC5-1415-4D8D-8DC2-847A5249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5DE4748-EF5A-47D9-82CC-6572B4847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46085F2-8677-46C0-8CCA-A081DA1BC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656A31-7B4C-4F74-91BD-EAE352E3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5670F4-2D6D-48F0-9B65-32C99770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506805C-AADC-4162-B626-D57D77276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9A42-7CDA-4BAD-86F7-209A1934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09F762-8A71-476D-B8ED-29DB18066B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5D2630-CD39-4DF6-B3B6-2CAC47BEC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3B8CC5-345D-48F5-A8A4-B000D1C27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5E5EF2-86D7-4E59-BE10-B4C0988C7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4C2D0-A434-4353-B209-80994C8DF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577B2E-A4A9-454A-A10C-3C129E863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90163E-2B94-41F3-83C6-D0D0E3AC7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E41A4-862D-4988-8EC4-30A7D81A0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0B5C7-D811-499B-891F-F6C3EEC42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A29994-8799-41E6-B537-E5A2DF09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8C37-DEDD-40D6-B142-A51B0B1FC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ABF8DE-0D23-4A42-802C-EE7F01BF8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601A23-38C9-43A0-AC49-516CC00D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82F10-4D6D-430C-A12B-248EC61C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8907C74-9531-40E1-A216-3E1F695B4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02D14B1-32AC-4CC7-BCC6-937AFAD4D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5089D-4853-4226-882A-3E5A6C799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BE8D6AB-2CAA-4126-90E2-D6B4557A6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B01047A-7F24-4077-BD5C-BE400E95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66B967-2485-4B2F-BBE7-59F2FC10B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CDADB7D-10F1-4747-AB68-197B82264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CB57-5022-46A3-8D16-35A11032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C3101FD-EAAF-4361-9EC0-CB5C8B854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E37967-CE0F-4346-9C60-0F30668C7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69D2B88-3C9A-4C7F-A8B8-398E97AA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C636E5D-7D04-449A-8D1C-7648BC267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1589A3-0DFF-4081-865B-377F58743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BC202-54B0-4235-87B3-3D3B5BDA9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46107-09BC-4CEE-9192-551B24D85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DB3C-1220-4E49-8029-6C5F197A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B8CD6-7A1F-4D1A-8EDE-F9A04935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93D21-3D44-40E3-8A76-A8A390D1C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D4BA-7821-4F36-A38F-05CC6429C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95A2B-4281-4E77-A038-364A4C62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D966-724E-4446-9A11-98099DA78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D5D0F-725D-477B-AFD3-8ACB11CFC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79BAD-41B5-4EEC-ACEF-B5B0FAF1D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0B76A-CBE1-4B45-8631-DF02CF33D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1E336-8A75-42B2-8916-C75EE403F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C216C-275B-4374-BB5C-CAF8C842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F520F-8AB6-42D7-8C02-8D13747E1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362B90-2A89-4B72-9CC7-7C1EE37E2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B7B58F-30C2-4305-90AE-480B2DB28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5C1E-A221-4741-96D6-9505A802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7D7E76-443A-4B29-99DC-1B40EAA8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141E8C-765E-4E5B-B490-0ED166FD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0E5F7-07DC-4588-81BC-2141A82AC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52B2B5-CA37-4AB7-A139-A5EFD738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C7BBD-ACEF-4281-9FBF-EAE157C59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64D2C-997C-42A9-B44C-5EDD519CC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E38CC-CB3C-49F8-A8F6-0AEE85840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A9E32F-5081-4C01-BF66-9C4CCC34B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2D699-A2E5-4CB2-9493-B2DC19610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D3AF4-B379-4B18-9684-AB96785C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FC85-366C-4649-A2FF-B6102E15C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C1880A-3E25-41CC-A64F-A37C3DF9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BF2E89-0505-4003-8190-30555F10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01E0F2-D9B9-4090-B1BC-66C491E55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DFC97-A7D0-4270-BBE0-415FEA30F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23C6AE-AC3C-4BC4-8513-050264F7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259FCB-51E4-4E45-B630-ED577A3F4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892C9-F2CB-4070-B0C0-16040607D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478D8A-3F6A-4F55-B419-5D7398252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7834B9-5EC8-44BB-A690-F5B13AABD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AD2C6B-8235-40F5-AA1A-B85D076495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CE2F-321F-42C9-86C5-7DACC7BE2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81510-E4B7-4114-842A-89C3ABBE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D20D67-95C4-49AF-8EE5-A2130E3DA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AEAD29-5635-4629-857C-8A2832BD1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633031-F71F-4525-964C-7B59BE9C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0AEB81-876B-4AA2-9564-97D81231F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0F836-2488-44E2-A5C4-5A909008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A43864-38BC-47FB-91BD-E3CA17E4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A95E98-4D0D-4DFB-9950-BAD36ADC4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10F2F-B72A-473C-82C5-18138CE67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002A9-9848-4933-B14D-FC4EEBE6C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D3D9-054E-4D39-9D3C-3E5C80DFE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A3DA57-DB97-40A0-BB93-FEA57ECF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F12A6D-86ED-4A76-B04F-6CBBEDF14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0FAE8F-BEA3-47E1-AFCB-B8EB00DAC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E0E6E-69AF-4F07-8635-5BB1FF282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F60043-512A-4095-B41C-4E0745454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B01AD2-D778-4AE3-813E-B4BED2A4E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C23550-989E-44B6-9826-E5341C96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B60FE-674D-4ECC-997F-54456D0DC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20712-1E76-4390-89F5-336985BD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5B623-E579-48F8-83FA-C9EFB97CD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E277-C9BF-4478-BA4D-212D3361C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69927-F248-4F0C-A979-AD4AB7051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112116-8F7F-49DB-9663-81B81134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5D5FDD-E989-4AE0-9AD6-5D35AB29B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0C8A39-A925-443D-BA69-648178EC1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34948-BB79-4B4D-95FD-9053ECBC6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B77F1-5FB3-4D17-A546-C4BD3C223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91A970-D137-4C67-BB08-E02E9BDA7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C70A1-6AEA-4C34-9497-BA5CDA05F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6AC44-77AC-4CCE-8C30-B2B04462E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21660-632A-46C0-A1ED-41139A34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3BFA9-AA1A-4A14-8857-80BEED2F3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BD10BB-4B4B-44DA-90A1-3A2ACD27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5A73F5-438D-40E3-AFC8-F706A357D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9C5104-7D72-4E66-818B-94FD5939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F499A-D134-47FE-869A-C2F3BA2F7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A2161-2A56-4D4E-8E96-1258F438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B7C3E5-9F02-4EF1-9B09-9236E451A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7156CC-3F47-44FA-BCB6-FC6D7DAD3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DFACA1-D1C7-4F99-8B56-566C8502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B94060-996E-46C8-8205-63DF2E02B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68205-8B98-4FA5-A7C9-018DC413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96D64-07D4-466F-A122-CE3ECB2E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EC8FA2-3F25-4236-B30A-7E4DF490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F39816-BBF0-4F43-A7CF-C861F8BA2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C682E1-060C-491A-ACA6-82D777AD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21F5DA-0A9D-4B74-BBE6-061244D7F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92B9F-B763-46D3-9914-74F004028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6B8466-050D-4E01-9BBD-35E5B4CA0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465C2D-7E22-4A94-B490-6A1873651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CE76E3E-B062-40AA-89D9-4DE3B3050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BDF0F8F-46C9-4CD6-BD24-B65D2985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13963C-8FCA-4F38-B912-7F2C93195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4924E-D94A-4646-AC92-EBEA5605FE6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8CCB-D581-4473-A8D4-16747249882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F2DD-2D75-42AD-AE4C-6CAEA19A954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265F-50EC-4B74-A631-DC495B7B373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D1AA9-0B1C-4006-B55E-C0F6307419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14554-88D8-4B6A-93B3-77F8FC54BA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6177-AC04-4074-A751-A50D7D17320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7F55-84A2-4F7B-8E7B-EFA79B43B59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0155A-E738-47CC-824C-A7DAB913B7A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EF33-00B7-49D8-B919-867C90334ED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DED05-CA29-437C-8651-C706DA80369A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3E09-65D6-432C-81A3-04B5C102BF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침전 형태 구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이침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압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66080" y="326880"/>
            <a:ext cx="453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슬러지 침전속도 분석 및 침전조 크기 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4" name="Picture 4" descr=""/>
          <p:cNvPicPr/>
          <p:nvPr/>
        </p:nvPicPr>
        <p:blipFill>
          <a:blip r:embed="rId1"/>
          <a:srcRect l="5101" t="612" r="4500" b="0"/>
          <a:stretch/>
        </p:blipFill>
        <p:spPr>
          <a:xfrm>
            <a:off x="118440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5" name="Picture 6" descr=""/>
          <p:cNvPicPr/>
          <p:nvPr/>
        </p:nvPicPr>
        <p:blipFill>
          <a:blip r:embed="rId2"/>
          <a:srcRect l="2520" t="966" r="2520" b="845"/>
          <a:stretch/>
        </p:blipFill>
        <p:spPr>
          <a:xfrm>
            <a:off x="2340000" y="2492280"/>
            <a:ext cx="1085760" cy="2927520"/>
          </a:xfrm>
          <a:prstGeom prst="rect">
            <a:avLst/>
          </a:prstGeom>
          <a:ln w="0">
            <a:noFill/>
          </a:ln>
        </p:spPr>
      </p:pic>
      <p:pic>
        <p:nvPicPr>
          <p:cNvPr id="786" name="Picture 7" descr=""/>
          <p:cNvPicPr/>
          <p:nvPr/>
        </p:nvPicPr>
        <p:blipFill>
          <a:blip r:embed="rId3"/>
          <a:srcRect l="1906" t="729" r="2224" b="486"/>
          <a:stretch/>
        </p:blipFill>
        <p:spPr>
          <a:xfrm>
            <a:off x="34876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8" descr=""/>
          <p:cNvPicPr/>
          <p:nvPr/>
        </p:nvPicPr>
        <p:blipFill>
          <a:blip r:embed="rId4"/>
          <a:stretch/>
        </p:blipFill>
        <p:spPr>
          <a:xfrm>
            <a:off x="4637160" y="2492280"/>
            <a:ext cx="1085760" cy="2924280"/>
          </a:xfrm>
          <a:prstGeom prst="rect">
            <a:avLst/>
          </a:prstGeom>
          <a:ln w="0">
            <a:noFill/>
          </a:ln>
        </p:spPr>
      </p:pic>
      <p:pic>
        <p:nvPicPr>
          <p:cNvPr id="788" name="Picture 9" descr=""/>
          <p:cNvPicPr/>
          <p:nvPr/>
        </p:nvPicPr>
        <p:blipFill>
          <a:blip r:embed="rId5"/>
          <a:srcRect l="652" t="0" r="978" b="245"/>
          <a:stretch/>
        </p:blipFill>
        <p:spPr>
          <a:xfrm>
            <a:off x="5788080" y="2492280"/>
            <a:ext cx="1085760" cy="292572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10" descr=""/>
          <p:cNvPicPr/>
          <p:nvPr/>
        </p:nvPicPr>
        <p:blipFill>
          <a:blip r:embed="rId6"/>
          <a:srcRect l="3689" t="0" r="3689" b="245"/>
          <a:stretch/>
        </p:blipFill>
        <p:spPr>
          <a:xfrm>
            <a:off x="6940440" y="2492280"/>
            <a:ext cx="1086120" cy="2925720"/>
          </a:xfrm>
          <a:prstGeom prst="rect">
            <a:avLst/>
          </a:prstGeom>
          <a:ln w="0">
            <a:noFill/>
          </a:ln>
        </p:spPr>
      </p:pic>
      <p:sp>
        <p:nvSpPr>
          <p:cNvPr id="790" name="Text Box 12"/>
          <p:cNvSpPr/>
          <p:nvPr/>
        </p:nvSpPr>
        <p:spPr>
          <a:xfrm>
            <a:off x="1120680" y="2460600"/>
            <a:ext cx="59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13"/>
          <p:cNvSpPr/>
          <p:nvPr/>
        </p:nvSpPr>
        <p:spPr>
          <a:xfrm>
            <a:off x="2279520" y="245736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5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4"/>
          <p:cNvSpPr/>
          <p:nvPr/>
        </p:nvSpPr>
        <p:spPr>
          <a:xfrm>
            <a:off x="3454560" y="2454120"/>
            <a:ext cx="633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1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5"/>
          <p:cNvSpPr/>
          <p:nvPr/>
        </p:nvSpPr>
        <p:spPr>
          <a:xfrm>
            <a:off x="4597560" y="2454120"/>
            <a:ext cx="64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2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6"/>
          <p:cNvSpPr/>
          <p:nvPr/>
        </p:nvSpPr>
        <p:spPr>
          <a:xfrm>
            <a:off x="5757840" y="2454120"/>
            <a:ext cx="6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3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17"/>
          <p:cNvSpPr/>
          <p:nvPr/>
        </p:nvSpPr>
        <p:spPr>
          <a:xfrm>
            <a:off x="6910560" y="2454120"/>
            <a:ext cx="704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  <a:ea typeface="굴림"/>
              </a:rPr>
              <a:t>60 min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5"/>
          <p:cNvSpPr/>
          <p:nvPr/>
        </p:nvSpPr>
        <p:spPr>
          <a:xfrm>
            <a:off x="809640" y="642960"/>
            <a:ext cx="7362720" cy="7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간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면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Hindered (Zone) Settling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처리공학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I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제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장 물리적 처리 참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52" descr=""/>
          <p:cNvPicPr/>
          <p:nvPr/>
        </p:nvPicPr>
        <p:blipFill>
          <a:blip r:embed="rId1"/>
          <a:stretch/>
        </p:blipFill>
        <p:spPr>
          <a:xfrm>
            <a:off x="755640" y="1413000"/>
            <a:ext cx="74548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5"/>
          <p:cNvSpPr/>
          <p:nvPr/>
        </p:nvSpPr>
        <p:spPr>
          <a:xfrm>
            <a:off x="809640" y="642960"/>
            <a:ext cx="736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회분식 실험 결과에 의한 소요면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rea Requirement Based on Single-Batch Test Resul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9" name="Picture 3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344000" cy="3539880"/>
          </a:xfrm>
          <a:prstGeom prst="rect">
            <a:avLst/>
          </a:prstGeom>
          <a:ln w="0">
            <a:noFill/>
          </a:ln>
        </p:spPr>
      </p:pic>
      <p:sp>
        <p:nvSpPr>
          <p:cNvPr id="800" name="직사각형 4"/>
          <p:cNvSpPr/>
          <p:nvPr/>
        </p:nvSpPr>
        <p:spPr>
          <a:xfrm>
            <a:off x="3800520" y="3598920"/>
            <a:ext cx="1368360" cy="718920"/>
          </a:xfrm>
          <a:prstGeom prst="rect">
            <a:avLst/>
          </a:prstGeom>
          <a:noFill/>
          <a:ln w="1260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1" name="Picture 4" descr=""/>
          <p:cNvPicPr/>
          <p:nvPr/>
        </p:nvPicPr>
        <p:blipFill>
          <a:blip r:embed="rId2"/>
          <a:stretch/>
        </p:blipFill>
        <p:spPr>
          <a:xfrm>
            <a:off x="1751040" y="5157720"/>
            <a:ext cx="5986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2" name="Picture 5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403236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6" descr=""/>
          <p:cNvPicPr/>
          <p:nvPr/>
        </p:nvPicPr>
        <p:blipFill>
          <a:blip r:embed="rId2"/>
          <a:stretch/>
        </p:blipFill>
        <p:spPr>
          <a:xfrm>
            <a:off x="1116000" y="4581360"/>
            <a:ext cx="65516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5" descr=""/>
          <p:cNvPicPr/>
          <p:nvPr/>
        </p:nvPicPr>
        <p:blipFill>
          <a:blip r:embed="rId1"/>
          <a:stretch/>
        </p:blipFill>
        <p:spPr>
          <a:xfrm>
            <a:off x="1028880" y="1413000"/>
            <a:ext cx="6999120" cy="324000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농축에 필요한 면적 결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7" name="Text Box 26"/>
          <p:cNvSpPr/>
          <p:nvPr/>
        </p:nvSpPr>
        <p:spPr>
          <a:xfrm>
            <a:off x="809640" y="907920"/>
            <a:ext cx="801036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과정과 동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T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만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값은 지난 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를 활용하여 침전조 설계에 활용하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결과가 나오면 결과를 보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처리장 설계유입유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0,000m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려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표면적이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하게 설계되었는지 확인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조 지수 고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8" name="Picture 4" descr="su_map1"/>
          <p:cNvPicPr/>
          <p:nvPr/>
        </p:nvPicPr>
        <p:blipFill>
          <a:blip r:embed="rId1"/>
          <a:stretch/>
        </p:blipFill>
        <p:spPr>
          <a:xfrm>
            <a:off x="766800" y="3294000"/>
            <a:ext cx="4836960" cy="163836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5" descr="su_map2"/>
          <p:cNvPicPr/>
          <p:nvPr/>
        </p:nvPicPr>
        <p:blipFill>
          <a:blip r:embed="rId2"/>
          <a:stretch/>
        </p:blipFill>
        <p:spPr>
          <a:xfrm>
            <a:off x="3838680" y="44323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10" name="직사각형 24"/>
          <p:cNvSpPr/>
          <p:nvPr/>
        </p:nvSpPr>
        <p:spPr>
          <a:xfrm>
            <a:off x="3646440" y="4446720"/>
            <a:ext cx="1584360" cy="1368360"/>
          </a:xfrm>
          <a:prstGeom prst="rect">
            <a:avLst/>
          </a:prstGeom>
          <a:noFill/>
          <a:ln w="2556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5-03-31T01:25:58Z</dcterms:modified>
  <cp:revision>197</cp:revision>
  <dc:subject/>
  <dc:title>슬라이드 1</dc:title>
</cp:coreProperties>
</file>